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D95-C3FD-468C-A981-364AC525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733-F788-4196-815B-A2D3AAF0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499-2A05-46DB-B4C9-25C7B595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72D-459E-4DF5-932E-1AB31544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08993-0A7A-438C-9B34-D5DDAB76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980A6-48AE-4796-AFD2-D22393C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40CBD-2BFE-4839-8C72-5218119D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F8C5-837D-433C-808D-C6FF57FD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D145D-927C-4939-A0FC-177064C4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64D35-7B4F-44D1-B4EE-C69BEE99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556A7-E7E9-47CD-A32B-3B72704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F48-6A68-46FC-9EB6-1FEB536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13BB9-8032-4204-B8E1-1D75369B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193A0-F0B8-44D7-8B33-D968948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71843-1D0B-44EC-B66E-06DD81D6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7F339-363F-4585-A9B4-E21DBF22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0E67-44F4-4FE9-9E79-0E0F01D9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555-EF00-4D05-BCF8-1A25EB9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F9F-84E8-4C74-9FEF-A693E25F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B11-E358-42D0-9CC3-DFB3186B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CB0-56BF-47DC-838B-1EBCD615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354-E6CF-441B-B4A7-D63AF34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1C9-8AF8-47A2-AE86-3BBB1ECF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2C3-7B9A-4843-AE3B-87570B9A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3D08-82C2-4FAA-A6A3-9EFC87638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56B-97C3-46EB-B0AB-D234D69C7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476360" y="4508640"/>
            <a:ext cx="56880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MABO CASE"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January 1992 koiki Mabo died from cancer he was 56 years old and was remembered as a Australian land rights h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971640" y="5300640"/>
            <a:ext cx="6767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bo was named Eddie koiko sambo but he changed to Mabo when he adopted by his mother’s brother, Benny Mab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82 Koiki (Eddie) Mabo challenged the legal position of Terra Nullius for the aboriginal lands, Murray islands and Torres strait isl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cision said that under Australian law, indigenous people have right to land-rights that Existed before Colonisation and which still Exist. This right is called native ti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Recognising the Existence of the native title the high court also confirmed the government that they had power to acquire native title providing they kept within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ction which brought about the Terra Nullius decision had been led by Eddie Mabo, David Passi, James Rice, all from the Merriam peo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ommenced proceedings in the High court in 1982 in response to the Queens  Amendment A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However the Mabo decision was left unresolved because of lack of the land given back to the native own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1982 they established a system of making land grants on trust for aboriginals Torres Strait islanders which Murray islanders did not acce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3:19Z</dcterms:created>
  <dc:creator>Reservoir District Secondary College</dc:creator>
  <dc:description/>
  <dc:language>en-US</dc:language>
  <cp:lastModifiedBy>Reservoir District Secondary College</cp:lastModifiedBy>
  <dcterms:modified xsi:type="dcterms:W3CDTF">2008-06-05T02:12:05Z</dcterms:modified>
  <cp:revision>3</cp:revision>
  <dc:subject/>
  <dc:title>Slide 1</dc:title>
</cp:coreProperties>
</file>